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C63-396C-4EAC-84D4-CDE0652C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76F-D3B1-4BAA-B35C-9FE13B19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296-F368-4B74-A05E-67491127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E02-3AB9-4DEF-B3AA-488DCCDD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F752-A84B-4C7B-843A-62C71F02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C064-8ED6-468A-99D9-DFEE8F2D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43BE-9E3C-4062-A803-9DFCE36A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166D-5DF2-4B7D-8059-59D5A1E2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0167-0CCD-42B8-811C-4DAC6F85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BB4A-C16A-444D-B206-AB046264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65D0-9F8B-4D5B-9DCF-84C7DB96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D87-51AE-40D6-AF08-458648D7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9461-EC09-4923-8014-7B6F723F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0001-0E91-408A-B64E-7C0B0FD4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729E-3F71-41D0-9EC4-805A3ED1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4060-D3BA-44FB-A6A3-A69E7FF1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7AFE-D550-4C94-BF32-D3D943FC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0B95-B0D5-41EA-8406-23A07B02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36B7-1B15-433E-82FE-A96ECA75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9D53-E8F3-4F0A-83FA-F737820B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5759-591E-47BD-B0BE-2617993C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71DEB-3EC9-4A9D-93AF-F079436C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181-8C97-472A-BB30-65A8A818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871D-92AE-4733-A850-E1E7132B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0153-79A7-4E8F-8712-64BCC381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D7CD-0671-44C9-BA3A-D6495A2A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951C-838F-49A7-860D-43181F8C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E0C3-A69F-4D65-B5F2-6207EEE2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A0EA-7930-411B-85F3-E102A58A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D149-FEEE-4669-B7E9-1768E796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42D3-1C8A-4EE2-8440-6E908069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1E10B-5E34-4589-B830-BCD580BE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68314-5CC5-4D99-BE14-08BFF122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2F9-2711-476F-9C80-A608A452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6CD6-4000-4751-AAA4-6DA998F4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6FD9A-2531-4035-867F-D73B31A4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A4F11-9F8C-4AEC-9A05-5F73C2FF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8F1D4-3F87-418F-B6AB-A0F3AAF1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257BD-F45D-4F8E-9133-EEFF9757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D8768-A183-49E8-B44D-64B999DA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42FE7-4B39-473D-B960-1C1A04A7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B8C3-59F7-4997-977D-BBA15138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07A8A-945A-4B7C-8298-48E19CB2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69ADB-C9CE-45EF-A40F-78677E1B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46B-293E-440E-A01E-8ABC209E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66A64-460E-4910-9D7A-65A62B34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88E54-DB29-4785-B09E-DF07EA9C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52BAE-D1FF-4E3C-9B75-7CBFD87C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A9A46-0B91-4D92-994B-1A76A796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BE3E8-647C-4137-BEF2-6CAA5BDE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B5A6-788A-4E0A-82B3-2CD642FF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09A43-6E36-4BB6-9CC3-E7A22A4D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17A6C-CC35-462E-B5CE-AA33F9EB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275EF-D760-44FA-8D8C-9B9318F8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3B6DD-E201-487C-B673-B5853D3A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0A1-CA2C-4799-BDC9-D1A53EF1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491F0-D939-416A-8285-3E8454BE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CCBC5-A4C2-4DE5-8B0F-86E28DA9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F24E2-E3AE-47ED-890E-6EC5EF4C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A5D3E-5987-4A3F-A2F8-DDA5A377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0259E-C467-4D60-A7E6-C415BBF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1DBE4-C044-4D35-A4B3-8CCB7C8E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22EBF-578D-4E87-8CEC-AF716BCE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BA83B-6A71-40D9-9BB2-96FC0BB2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A8FB1-D68F-49E7-AF00-84B135BE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64219-53C2-4813-B791-509DF335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F69-EB7B-492F-8450-43DBEA51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36EA-EA6E-4335-827A-283E517B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20067-3DBE-46CD-81C9-D50B9D51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0C2A8-C49C-44E7-969C-28239515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FF5-8946-408F-BBE4-D434472A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A63-3AEA-447A-9430-771C0F87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E55C-E1A5-4EF8-B85F-9AD57833D53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9713-3C04-4E6F-8D0C-5427788A385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0533-0B8C-44E0-BC4C-B4927096DBA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359A-29CD-4DDD-8F14-FF0673376ED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30E0-03D7-4B43-9283-E89E05B3924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E6E4-CADA-4877-921B-0F0C29C4A67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5718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c0099"/>
                </a:solidFill>
                <a:latin typeface="Verdana"/>
              </a:rPr>
              <a:t>Введение в теорию вероятност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rcRect l="0" t="-94" r="86476" b="82156"/>
          <a:stretch/>
        </p:blipFill>
        <p:spPr>
          <a:xfrm>
            <a:off x="468360" y="115920"/>
            <a:ext cx="2016000" cy="2006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2"/>
          <a:srcRect l="73144" t="2466" r="9552" b="82156"/>
          <a:stretch/>
        </p:blipFill>
        <p:spPr>
          <a:xfrm>
            <a:off x="6084720" y="260280"/>
            <a:ext cx="21956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Пример: с бросанием куб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Событие 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выпадение на верхней грани одного из чисел – 1, 2, 3, 4, 5, 6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уществует 6 </a:t>
            </a:r>
            <a:r>
              <a:rPr b="1" i="1" lang="ru-RU" sz="2800" spc="-1" strike="noStrike">
                <a:solidFill>
                  <a:srgbClr val="cc0099"/>
                </a:solidFill>
                <a:latin typeface="Verdana"/>
              </a:rPr>
              <a:t>равновозможны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сходов этого собы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Событие 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выпадение числа очков,    кратного 3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сходит лишь при двух исходах испытания ( ?). Эти исходы называют </a:t>
            </a:r>
            <a:r>
              <a:rPr b="1" i="1" lang="ru-RU" sz="2800" spc="-1" strike="noStrike">
                <a:solidFill>
                  <a:srgbClr val="cc0099"/>
                </a:solidFill>
                <a:latin typeface="Verdana"/>
              </a:rPr>
              <a:t>благоприятным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ходами для события 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324000" y="404640"/>
            <a:ext cx="1079280" cy="1008360"/>
            <a:chOff x="324000" y="404640"/>
            <a:chExt cx="1079280" cy="1008360"/>
          </a:xfrm>
        </p:grpSpPr>
        <p:sp>
          <p:nvSpPr>
            <p:cNvPr id="303" name="AutoShape 5"/>
            <p:cNvSpPr/>
            <p:nvPr/>
          </p:nvSpPr>
          <p:spPr>
            <a:xfrm>
              <a:off x="324000" y="404640"/>
              <a:ext cx="1079280" cy="1008360"/>
            </a:xfrm>
            <a:prstGeom prst="cube">
              <a:avLst>
                <a:gd name="adj" fmla="val 25000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"/>
            <p:cNvSpPr/>
            <p:nvPr/>
          </p:nvSpPr>
          <p:spPr>
            <a:xfrm>
              <a:off x="611280" y="907920"/>
              <a:ext cx="215640" cy="21744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7"/>
            <p:cNvSpPr/>
            <p:nvPr/>
          </p:nvSpPr>
          <p:spPr>
            <a:xfrm>
              <a:off x="539640" y="476280"/>
              <a:ext cx="21600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"/>
            <p:cNvSpPr/>
            <p:nvPr/>
          </p:nvSpPr>
          <p:spPr>
            <a:xfrm>
              <a:off x="900000" y="476280"/>
              <a:ext cx="142920" cy="1461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9"/>
            <p:cNvSpPr/>
            <p:nvPr/>
          </p:nvSpPr>
          <p:spPr>
            <a:xfrm>
              <a:off x="1258920" y="620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1187280" y="1052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1"/>
            <p:cNvSpPr/>
            <p:nvPr/>
          </p:nvSpPr>
          <p:spPr>
            <a:xfrm>
              <a:off x="1258920" y="836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Классическое определение вероят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Вероятностью события называется отношение числа благоприятных для него исходов испытания к числу всех равновозможных исхо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Пишут: Р(В)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780000" y="4508640"/>
                <a:ext cx="11952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равните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атистическое определение вероят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293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9f2936"/>
                </a:solidFill>
                <a:latin typeface="Verdana"/>
              </a:rPr>
              <a:t>Значение, около которого группируются наблюдаемые значения относительной частоты, принимается за вероятность случайного собы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Классическое определение вероят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f2936"/>
                </a:solidFill>
                <a:latin typeface="Verdana"/>
              </a:rPr>
              <a:t>Вероятностью события называется отношение числа благоприятных для него исходов испытания к числу всех равновозможных исход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Пример: игра в наперст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14080" y="529920"/>
            <a:ext cx="3932280" cy="4389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514800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Verdana"/>
              </a:rPr>
              <a:t>Какова вероятность того, что ты угадаешь, где спрятан шари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Verdana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700" spc="-1" strike="noStrike">
                <a:solidFill>
                  <a:srgbClr val="0070c0"/>
                </a:solidFill>
                <a:latin typeface="Verdana"/>
              </a:rPr>
              <a:t>    ⅓</a:t>
            </a:r>
            <a:r>
              <a:rPr b="1" i="1" lang="ru-RU" sz="6700" spc="-1" strike="noStrike">
                <a:solidFill>
                  <a:srgbClr val="0070c0"/>
                </a:solidFill>
                <a:latin typeface="Verdana"/>
              </a:rPr>
              <a:t>, …</a:t>
            </a:r>
            <a:endParaRPr b="0" lang="en-US" sz="6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rcRect l="21853" t="33223" r="22039" b="18053"/>
          <a:stretch/>
        </p:blipFill>
        <p:spPr>
          <a:xfrm>
            <a:off x="755640" y="1628640"/>
            <a:ext cx="46641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642600" y="928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Задача 1.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аня забыла последнюю цифру номера телефона знакомой девочки и набрала наугад. Какова вероятность того, что Таня попала к своей знакомой?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Решение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24000" y="571320"/>
            <a:ext cx="8362800" cy="555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адача 2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характеризуйте событие, о котором идет речь, как достоверное, невозможное или случайное. Вы открыли эту книгу на любой странице и прочитали первое попавшееся существительное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казалось, что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аписании выбранного слова есть гласная бук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аписании выбранного слова есть буква «О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аписании выбранного слова нет гласных бук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аписании выбранного слова есть мягкий зна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Verdana"/>
              </a:rPr>
              <a:t>Ошибка Даламбер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000320" y="785520"/>
            <a:ext cx="4390920" cy="4708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>
                <a:solidFill>
                  <a:srgbClr val="0070c0"/>
                </a:solidFill>
                <a:latin typeface="Verdana"/>
              </a:rPr>
              <a:t>Великий француз – Даламбер – вошел в историю теории вероятностей со своей знаменитой ошибкой, суть которой в том, что он неверно определил равновозможность исходов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9" descr="i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1989000"/>
            <a:ext cx="286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дача Даламбер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6"/>
              <p:cNvSpPr txBox="1"/>
              <p:nvPr/>
            </p:nvSpPr>
            <p:spPr>
              <a:xfrm>
                <a:off x="2424240" y="26179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8"/>
              <p:cNvSpPr txBox="1"/>
              <p:nvPr/>
            </p:nvSpPr>
            <p:spPr>
              <a:xfrm>
                <a:off x="6664320" y="26179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29" name="Picture 4" descr=""/>
          <p:cNvPicPr/>
          <p:nvPr/>
        </p:nvPicPr>
        <p:blipFill>
          <a:blip r:embed="rId1"/>
          <a:srcRect l="1986" t="40925" r="90322" b="48819"/>
          <a:stretch/>
        </p:blipFill>
        <p:spPr>
          <a:xfrm>
            <a:off x="0" y="404640"/>
            <a:ext cx="1873080" cy="14050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"/>
          <p:cNvSpPr/>
          <p:nvPr/>
        </p:nvSpPr>
        <p:spPr>
          <a:xfrm>
            <a:off x="324000" y="1700280"/>
            <a:ext cx="8316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f2936"/>
                </a:solidFill>
                <a:latin typeface="Arial"/>
              </a:rPr>
              <a:t>Найти вероятность того, что при подбрасывании двух монет на обеих монетах выпадут ре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Решение, предложенное Даламбером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>
                <a:solidFill>
                  <a:srgbClr val="0070c0"/>
                </a:solidFill>
                <a:latin typeface="Verdana"/>
              </a:rPr>
              <a:t>Опыт имеет три равновозможных исхода:</a:t>
            </a:r>
            <a:br>
              <a:rPr sz="2600"/>
            </a:br>
            <a:r>
              <a:rPr b="1" i="1" lang="ru-RU" sz="2600" spc="-1" strike="noStrike">
                <a:solidFill>
                  <a:srgbClr val="0070c0"/>
                </a:solidFill>
                <a:latin typeface="Verdana"/>
              </a:rPr>
              <a:t>1. обе монеты упали на «орла»;</a:t>
            </a:r>
            <a:br>
              <a:rPr sz="2600"/>
            </a:br>
            <a:r>
              <a:rPr b="1" i="1" lang="ru-RU" sz="2600" spc="-1" strike="noStrike">
                <a:solidFill>
                  <a:srgbClr val="0070c0"/>
                </a:solidFill>
                <a:latin typeface="Verdana"/>
              </a:rPr>
              <a:t>2. обе монеты упали на «решку»;</a:t>
            </a:r>
            <a:br>
              <a:rPr sz="2600"/>
            </a:br>
            <a:r>
              <a:rPr b="1" i="1" lang="ru-RU" sz="2600" spc="-1" strike="noStrike">
                <a:solidFill>
                  <a:srgbClr val="0070c0"/>
                </a:solidFill>
                <a:latin typeface="Verdana"/>
              </a:rPr>
              <a:t>3. одна из монет упала на «орла», другая на «решку».</a:t>
            </a:r>
            <a:br>
              <a:rPr sz="2600"/>
            </a:br>
            <a:r>
              <a:rPr b="1" i="1" lang="ru-RU" sz="2600" spc="-1" strike="noStrike">
                <a:solidFill>
                  <a:srgbClr val="0070c0"/>
                </a:solidFill>
                <a:latin typeface="Verdana"/>
              </a:rPr>
              <a:t>Из них благоприятными для нашего события будет один исход, поэтому искомая вероятность равна 1/3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Достоверное событи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f2936"/>
                </a:solidFill>
                <a:latin typeface="Verdana"/>
              </a:rPr>
              <a:t>Событие, которое при проведении некоторого опыта происходит всегда, называется </a:t>
            </a:r>
            <a:r>
              <a:rPr b="1" i="1" lang="ru-RU" sz="2800" spc="-1" strike="noStrike">
                <a:solidFill>
                  <a:srgbClr val="cc0099"/>
                </a:solidFill>
                <a:latin typeface="Verdana"/>
              </a:rPr>
              <a:t>достоверным </a:t>
            </a:r>
            <a:r>
              <a:rPr b="1" i="1" lang="ru-RU" sz="2800" spc="-1" strike="noStrike">
                <a:solidFill>
                  <a:srgbClr val="9f2936"/>
                </a:solidFill>
                <a:latin typeface="Verdana"/>
              </a:rPr>
              <a:t>событи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23232"/>
                </a:solidFill>
                <a:latin typeface="Verdana"/>
              </a:rPr>
              <a:t>Пример: событие С: « при бросании кубика выпадет менее 7 очков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23232"/>
                </a:solidFill>
                <a:latin typeface="Verdana"/>
              </a:rPr>
              <a:t>Вероятность = 1, т.е. Р(С) =     =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6227640" y="4724280"/>
                <a:ext cx="3272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чаем на вопросы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03280" y="571320"/>
            <a:ext cx="8640720" cy="5097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Verdana"/>
              </a:rPr>
              <a:t>Что изучает теория вероятностей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Verdana"/>
              </a:rPr>
              <a:t>Какое событие называется случайны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Verdana"/>
              </a:rPr>
              <a:t>Что такое абсолютная частота событ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Verdana"/>
              </a:rPr>
              <a:t>Что называют относительной частотой событ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Verdana"/>
              </a:rPr>
              <a:t>Что называют вероятностью случайного событ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Невозможное событ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f2936"/>
                </a:solidFill>
                <a:latin typeface="Verdana"/>
              </a:rPr>
              <a:t>Событие, которое при проведении некоторого опыта не может произойти никогда, называется </a:t>
            </a:r>
            <a:r>
              <a:rPr b="1" i="1" lang="ru-RU" sz="3600" spc="-1" strike="noStrike">
                <a:solidFill>
                  <a:srgbClr val="cc0099"/>
                </a:solidFill>
                <a:latin typeface="Verdana"/>
              </a:rPr>
              <a:t>невозможным</a:t>
            </a:r>
            <a:r>
              <a:rPr b="1" i="1" lang="ru-RU" sz="3600" spc="-1" strike="noStrike">
                <a:solidFill>
                  <a:srgbClr val="9f2936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Verdana"/>
              </a:rPr>
              <a:t>Пример: событие К: « при бросании кубика выпадет 7 очков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23232"/>
                </a:solidFill>
                <a:latin typeface="Verdana"/>
              </a:rPr>
              <a:t>Вероятность равна 0, т.е. Р(К)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6483240" y="3665520"/>
                <a:ext cx="3682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70c0"/>
                </a:solidFill>
                <a:latin typeface="Verdana"/>
              </a:rPr>
              <a:t>Теория вероятностей изучает </a:t>
            </a:r>
            <a:r>
              <a:rPr b="1" i="1" lang="ru-RU" sz="5000" spc="-1" strike="noStrike">
                <a:solidFill>
                  <a:srgbClr val="c00000"/>
                </a:solidFill>
                <a:latin typeface="Verdana"/>
              </a:rPr>
              <a:t>закономерности случайных </a:t>
            </a:r>
            <a:r>
              <a:rPr b="1" i="1" lang="ru-RU" sz="5000" spc="-1" strike="noStrike">
                <a:solidFill>
                  <a:srgbClr val="0070c0"/>
                </a:solidFill>
                <a:latin typeface="Verdana"/>
              </a:rPr>
              <a:t>событий.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Случайное событи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f2936"/>
                </a:solidFill>
                <a:latin typeface="Verdana"/>
              </a:rPr>
              <a:t>Событие, которое может произойти, а может не произойти называется </a:t>
            </a:r>
            <a:r>
              <a:rPr b="1" i="1" lang="ru-RU" sz="3600" spc="-1" strike="noStrike">
                <a:solidFill>
                  <a:srgbClr val="cc0099"/>
                </a:solidFill>
                <a:latin typeface="Verdana"/>
              </a:rPr>
              <a:t>случайны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23232"/>
                </a:solidFill>
                <a:latin typeface="Verdana"/>
              </a:rPr>
              <a:t>Например, событие А: «ты получил сегодня 5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f2936"/>
                </a:solidFill>
                <a:latin typeface="Verdana"/>
              </a:rPr>
              <a:t>Абсолютная частота.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Абсолютная часто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ывает, сколько раз в серии эксперимента наблюдалось данное событ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f2936"/>
                </a:solidFill>
                <a:latin typeface="Verdana"/>
              </a:rPr>
              <a:t>Например, игральный кубик бросали 100 раз и наблюдали событие: «сколько раз выпадет 6». Оказалось, что «6» выпала 9 раз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f2936"/>
                </a:solidFill>
                <a:latin typeface="Verdana"/>
              </a:rPr>
              <a:t>Число 9 – абсолютная частота данного событ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5" name="Group 11"/>
          <p:cNvGrpSpPr/>
          <p:nvPr/>
        </p:nvGrpSpPr>
        <p:grpSpPr>
          <a:xfrm>
            <a:off x="324000" y="404640"/>
            <a:ext cx="1079280" cy="1008360"/>
            <a:chOff x="324000" y="404640"/>
            <a:chExt cx="1079280" cy="1008360"/>
          </a:xfrm>
        </p:grpSpPr>
        <p:sp>
          <p:nvSpPr>
            <p:cNvPr id="276" name="AutoShape 4"/>
            <p:cNvSpPr/>
            <p:nvPr/>
          </p:nvSpPr>
          <p:spPr>
            <a:xfrm>
              <a:off x="324000" y="404640"/>
              <a:ext cx="1079280" cy="1008360"/>
            </a:xfrm>
            <a:prstGeom prst="cube">
              <a:avLst>
                <a:gd name="adj" fmla="val 25000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5"/>
            <p:cNvSpPr/>
            <p:nvPr/>
          </p:nvSpPr>
          <p:spPr>
            <a:xfrm>
              <a:off x="611280" y="907920"/>
              <a:ext cx="215640" cy="21744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539640" y="476280"/>
              <a:ext cx="21600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900000" y="476280"/>
              <a:ext cx="142920" cy="1461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1258920" y="620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1187280" y="1052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1258920" y="836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      </a:t>
            </a: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Относительная частот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Verdana"/>
              </a:rPr>
              <a:t>Относительной частот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ого события называется отношение числа испытаний, в которых это событие наступило, к числу  всех испыт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f2936"/>
                </a:solidFill>
                <a:latin typeface="Verdana"/>
              </a:rPr>
              <a:t>Например, для предыдущего примера, отношение числа 9 к числу всех событий 100, равное          называют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f2936"/>
                </a:solidFill>
                <a:latin typeface="Verdana"/>
              </a:rPr>
              <a:t>относительной частотой этого событ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4859280" y="4005360"/>
                <a:ext cx="5986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86" name="Group 6"/>
          <p:cNvGrpSpPr/>
          <p:nvPr/>
        </p:nvGrpSpPr>
        <p:grpSpPr>
          <a:xfrm>
            <a:off x="324000" y="404640"/>
            <a:ext cx="1079280" cy="1008360"/>
            <a:chOff x="324000" y="404640"/>
            <a:chExt cx="1079280" cy="1008360"/>
          </a:xfrm>
        </p:grpSpPr>
        <p:sp>
          <p:nvSpPr>
            <p:cNvPr id="287" name="AutoShape 7"/>
            <p:cNvSpPr/>
            <p:nvPr/>
          </p:nvSpPr>
          <p:spPr>
            <a:xfrm>
              <a:off x="324000" y="404640"/>
              <a:ext cx="1079280" cy="1008360"/>
            </a:xfrm>
            <a:prstGeom prst="cube">
              <a:avLst>
                <a:gd name="adj" fmla="val 25000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8"/>
            <p:cNvSpPr/>
            <p:nvPr/>
          </p:nvSpPr>
          <p:spPr>
            <a:xfrm>
              <a:off x="611280" y="907920"/>
              <a:ext cx="215640" cy="21744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9"/>
            <p:cNvSpPr/>
            <p:nvPr/>
          </p:nvSpPr>
          <p:spPr>
            <a:xfrm>
              <a:off x="539640" y="476280"/>
              <a:ext cx="21600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0"/>
            <p:cNvSpPr/>
            <p:nvPr/>
          </p:nvSpPr>
          <p:spPr>
            <a:xfrm>
              <a:off x="900000" y="476280"/>
              <a:ext cx="142920" cy="1461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1"/>
            <p:cNvSpPr/>
            <p:nvPr/>
          </p:nvSpPr>
          <p:spPr>
            <a:xfrm>
              <a:off x="1258920" y="620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>
              <a:off x="1187280" y="1052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>
              <a:off x="1258920" y="836640"/>
              <a:ext cx="73080" cy="144360"/>
            </a:xfrm>
            <a:prstGeom prst="ellipse">
              <a:avLst/>
            </a:prstGeom>
            <a:solidFill>
              <a:srgbClr val="9f29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Статистическое определение вероят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f2936"/>
                </a:solidFill>
                <a:latin typeface="Verdana"/>
              </a:rPr>
              <a:t>При большом количестве испытаний  относительная частота принимает достаточно устойчивое знач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2936"/>
                </a:solidFill>
                <a:latin typeface="Verdana"/>
              </a:rPr>
              <a:t>Это значение, около которого группируются наблюдаемые значения относительной частоты, принимается за вероятность случайного событ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Равновозможные исходы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70c0"/>
                </a:solidFill>
                <a:latin typeface="Verdana"/>
              </a:rPr>
              <a:t>Исходы  в определенном опыте или наблюдении считают </a:t>
            </a: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равновозможными</a:t>
            </a:r>
            <a:r>
              <a:rPr b="1" i="1" lang="ru-RU" sz="4100" spc="-1" strike="noStrike">
                <a:solidFill>
                  <a:srgbClr val="0070c0"/>
                </a:solidFill>
                <a:latin typeface="Verdana"/>
              </a:rPr>
              <a:t>, если шансы этих исходов </a:t>
            </a:r>
            <a:r>
              <a:rPr b="1" i="1" lang="ru-RU" sz="4100" spc="-1" strike="noStrike">
                <a:solidFill>
                  <a:srgbClr val="c00000"/>
                </a:solidFill>
                <a:latin typeface="Verdana"/>
              </a:rPr>
              <a:t>одинаковы</a:t>
            </a:r>
            <a:r>
              <a:rPr b="1" i="1" lang="ru-RU" sz="4100" spc="-1" strike="noStrike">
                <a:solidFill>
                  <a:srgbClr val="0070c0"/>
                </a:solidFill>
                <a:latin typeface="Verdana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Благоприятные </a:t>
            </a: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исход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Verdana"/>
              </a:rPr>
              <a:t>Исходы, при которых происходит некоторое событие, называют благоприятными исходами для этого события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8:30:02Z</dcterms:created>
  <dc:creator>Вован</dc:creator>
  <dc:description/>
  <dc:language>en-US</dc:language>
  <cp:lastModifiedBy>ПК</cp:lastModifiedBy>
  <dcterms:modified xsi:type="dcterms:W3CDTF">2022-06-29T15:43:17Z</dcterms:modified>
  <cp:revision>22</cp:revision>
  <dc:subject/>
  <dc:title>Слайд 1</dc:title>
</cp:coreProperties>
</file>